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9630B-59C8-4646-90D1-FEB64A290B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6AB20-924B-4517-8DEE-CFCC433E9A32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5F2F-15CE-4FA4-BB0E-D87547D2C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EA14-AD0E-41C6-B41F-E63B62C50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4FF4-B127-4823-A3FD-CFB90088E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C833-6D2A-4F48-B2DF-D16A0CEFD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23709-2112-4B01-83BC-560F99810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E3107-146E-4E8E-B40F-BD4AD0E85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87DC9-C345-4F0F-9FC6-95914FFB7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A8262-42CD-4D61-B2B8-EF055AD48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9FCE1-A2F5-4464-A987-CD4CE2007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22EE9-6024-41E2-8AF7-1941E515E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433FF-B7E2-4A6D-8BBE-B621B87CE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B93E-F040-4391-9D06-EC0869CEE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16163-EB70-45EF-9F51-D76E87112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86836-2920-4D72-AB87-BFD46B7F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66AFD-70CE-433F-8AFE-D769C988D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41B4D-2377-4F67-B948-75BDD3E05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F0303-C579-4592-BC06-CE5974A95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B5986-4454-40D6-ADDE-BE7EEB4DF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94B2B-6DE3-45D8-9362-72D9424B7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1A43E-917D-47AD-830B-E6D5AD881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DD7B4-9ACB-47C7-A7DE-B34312292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8EBC5-79BA-446D-8FA1-098BAB5AB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A684-3616-49C2-84C2-FA3AE4AB1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0BA26-B1D1-49DE-A90D-C064B4FF7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3D819-8268-4D35-A8A9-3076152A6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6B96C-E825-4C2E-943C-FFB42BB18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9DE39-9F74-407D-82E5-D2F23ED3C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A3E10-3B2B-4860-9217-E8ACD8400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9C07D-A9E0-4F7C-A1EB-FD8B39815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A009A-525A-49EE-99C0-CD62FF227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4F7DA-F16B-4056-9210-36C9BBF93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2CBDE-D1D3-40BD-847A-F43F8792D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4AD37-FEB5-443B-A09C-FC884669F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B356-5150-44C7-9E03-BCD6B25B9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EC5F33-FB38-41C1-9A83-A1A9F3315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D8742-824A-4A7A-BC7B-9EEC6C8AA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BBB45-4C53-46A6-B18D-E20AF79E4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A37F7-F96D-4D51-8285-A2A17080F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9C729-2558-4CCD-B3CF-EA6234787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42520-A235-453C-B9FA-D5A0DE832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817DA-C1E2-4B1D-AA7F-00556FDA1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FDD59-7F2D-409B-A998-B727CFF4F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FFFB8-39D2-4FF6-AB2A-2206A51C9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8C03C4-AE00-4441-8B58-A0C5AC799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823F-5CD6-4236-9B42-CAB99BB63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FF36B-6B69-4617-9079-D46B37224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B9A281-1119-4AF9-B786-9B311747D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B8410E-B178-4693-924B-D3BBAB9C6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6AFDD7-4F2E-41C3-987C-3F5412FCB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A0C470-4477-4F81-B021-AD24DDA22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8143EF-4160-479B-916C-993F96C64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464313-597D-4C2A-8F2B-5A73FE444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ADC0CC-9D4E-4FF7-A1C8-AEA8FA25A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E16548-0608-482B-AB03-47F53A24A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25A516-C81B-4B15-A2C3-92D431997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E3F2-EA97-489C-8ECE-93FA30096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1B313B-09D2-4B5B-9372-B79360DF2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90C760-0A73-426B-8CA2-02A7CE72B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321C4D-0F94-413A-8DEE-E3B3B87A3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2087B7-77F2-4555-8920-DC07D6B9F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4E4025-9ADB-4CD6-BC1A-433BF7836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E2DD4D-B66B-407A-B82A-25B331FF0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145B1B-A871-46B0-A83E-FAE49F2AC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F4EAD4-2AAC-43B2-BC9F-12DEE5813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D34A37-84CC-423E-A1EE-73A95EF4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71994E-9BEF-4439-B250-9DCB64662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A402-8308-404B-8CFC-25A6CC8EF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6FE506-4952-4D64-A049-2E9EDE989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2D8FC3-78F4-4173-9E3D-7EA7337A7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20391A-8845-47D9-8C30-9A8B32831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9B20-A964-40BE-B48D-9F471BD47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B73D-A828-40F2-9BB2-D9BDEDED8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8C218-C31C-4A5C-B611-543F8837A687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715BA-62DB-4334-AF78-190870111CE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3D83E-C177-416E-A801-0C34CF3E605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17A92-8D76-4170-8F80-F12ADBF0DF85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CEA6A-49DD-483C-92CC-B70546F8A6C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303480"/>
              <a:chOff x="637560" y="534600"/>
              <a:chExt cx="8109000" cy="30348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3034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724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3C17E-F69C-411F-99A0-CA134B355E5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526320" y="238680"/>
            <a:ext cx="7799040" cy="564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9 ГОД И ПЛАНОВЫЙ ПЕРИОД 2020-2021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701640" y="990720"/>
          <a:ext cx="7777080" cy="533376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5025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6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7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4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1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7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17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7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0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96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4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,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5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9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1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8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2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7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5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9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0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778320" y="562320"/>
            <a:ext cx="7866720" cy="105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9 ГОД  </a:t>
            </a:r>
            <a:br>
              <a:rPr sz="1500"/>
            </a:b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757,69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5" name="Object 4"/>
          <p:cNvGraphicFramePr/>
          <p:nvPr/>
        </p:nvGraphicFramePr>
        <p:xfrm>
          <a:off x="1130400" y="2133720"/>
          <a:ext cx="7086600" cy="45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0400" y="2133720"/>
                    <a:ext cx="7086600" cy="45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845640" y="487080"/>
            <a:ext cx="781092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на 2019 год – 465,39 млн.руб. (местный бюджет – 153,62 млн.руб.,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311,77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8" name="Object 4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– 67,6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1" name="Object 4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 на 2019 год - 8,23 млн.руб.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ЖИЛЬЕМ МОЛОДЫХ СЕМЕЙ ДАЛЬНЕРЕЧЕНСКОГО ГОРОДСКОГО ОКРУГА» на 2019 год – 3,31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4" name="Object 3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– 22,57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7" name="Object 3" descr=""/>
          <p:cNvPicPr/>
          <p:nvPr/>
        </p:nvPicPr>
        <p:blipFill>
          <a:blip r:embed="rId1"/>
          <a:stretch/>
        </p:blipFill>
        <p:spPr>
          <a:xfrm>
            <a:off x="1068480" y="2209680"/>
            <a:ext cx="72849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- 1,91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9" name="Object 3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– 1,99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32" name="Object 3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– 41,68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35" name="Object 3" descr=""/>
          <p:cNvPicPr/>
          <p:nvPr/>
        </p:nvPicPr>
        <p:blipFill>
          <a:blip r:embed="rId1"/>
          <a:stretch/>
        </p:blipFill>
        <p:spPr>
          <a:xfrm>
            <a:off x="1284120" y="1981080"/>
            <a:ext cx="713268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7963200" cy="68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6072e"/>
                </a:solidFill>
                <a:latin typeface="Arial"/>
              </a:rPr>
              <a:t>РАСХОДЫ НА ОТДЕЛЬНЫЕ НЕПРОГРАММНЫЕ НАПРАВЛЕНИЯ ДЕЯТЕЛЬНОСТИ ИЗ МЕСТНОГО БЮДЖЕТ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7" name="Object 4"/>
          <p:cNvGraphicFramePr/>
          <p:nvPr/>
        </p:nvGraphicFramePr>
        <p:xfrm>
          <a:off x="630360" y="1235160"/>
          <a:ext cx="7839000" cy="55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1235160"/>
                    <a:ext cx="7839000" cy="55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4197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9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5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2,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6,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2,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6,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,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41440" y="990720"/>
          <a:ext cx="8151840" cy="569412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4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,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5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1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6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8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1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85640" y="1494000"/>
          <a:ext cx="8568000" cy="4956120"/>
        </p:xfrm>
        <a:graphic>
          <a:graphicData uri="http://schemas.openxmlformats.org/drawingml/2006/table">
            <a:tbl>
              <a:tblPr/>
              <a:tblGrid>
                <a:gridCol w="4027680"/>
                <a:gridCol w="1244520"/>
                <a:gridCol w="950760"/>
                <a:gridCol w="806760"/>
                <a:gridCol w="804600"/>
                <a:gridCol w="73368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0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строительство, реконструкцию зданий (в том числе проектно-изыскательские работы) детских садов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развитие муниципальной спортивной инфраструктур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2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текущий, капитальный ремонт муниципальных гидротехнических сооружен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капитальный ремонт и ремонт автомобильных дорог общего пользования населенных пунктов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молодым семьям для приобретения (строительства) жилья экономкласса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формирование современной городской сред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бюджету Дальнереченского городского округа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2,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0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19 ГОД (741,36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7" name="Object 4"/>
          <p:cNvGraphicFramePr/>
          <p:nvPr/>
        </p:nvGraphicFramePr>
        <p:xfrm>
          <a:off x="1130400" y="1231920"/>
          <a:ext cx="7022880" cy="50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0400" y="1231920"/>
                    <a:ext cx="7022880" cy="50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19 ГОДУ (351,14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0" name="Object 4"/>
          <p:cNvGraphicFramePr/>
          <p:nvPr/>
        </p:nvGraphicFramePr>
        <p:xfrm>
          <a:off x="485640" y="1566720"/>
          <a:ext cx="8001000" cy="46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640" y="1566720"/>
                    <a:ext cx="800100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8 И 2019-2021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3" name="Object 4"/>
          <p:cNvGraphicFramePr/>
          <p:nvPr/>
        </p:nvGraphicFramePr>
        <p:xfrm>
          <a:off x="325440" y="1287360"/>
          <a:ext cx="4686120" cy="543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287360"/>
                    <a:ext cx="4686120" cy="54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9ГОДУ (292,7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07" name="Object 6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598320" y="310680"/>
            <a:ext cx="8109360" cy="567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541440" y="1351080"/>
          <a:ext cx="8440560" cy="510372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3265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6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,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,2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,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2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3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85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3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3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6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,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7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5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632720" cy="10000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9 ГОД (757,69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12" name="Object 4"/>
          <p:cNvGraphicFramePr/>
          <p:nvPr/>
        </p:nvGraphicFramePr>
        <p:xfrm>
          <a:off x="558720" y="1397160"/>
          <a:ext cx="8178840" cy="51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397160"/>
                    <a:ext cx="817884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07-30T01:06:59Z</dcterms:modified>
  <cp:revision>177</cp:revision>
  <dc:subject/>
  <dc:title>Структура собственных доходов на 2016 год бюджета Дальнереченского городского округа</dc:title>
</cp:coreProperties>
</file>